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1E8-DDFB-4E58-9C80-662C6E15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D72-89BF-407F-8BED-0E88EF1B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463-1021-4F6D-A8A5-C780EA05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0F4-89BE-4B43-93A6-4CB2D84E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C153-9DAA-48A3-9D33-BD74ECFE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935C-EB44-49B2-86D6-9C15E529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2830-0A47-4514-8408-E8C661D8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F667-A1B7-49CC-B56F-8B408743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AF17-36F3-4C84-9CB2-97BC9EF8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A6CF-84E9-4759-979A-389CDFF3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573C-D9E9-460C-8E34-1741DD7C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9EA-EB37-4E2E-AE6A-A4AA91E6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70B1-5FBF-4259-9F3F-82073B73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E989-42DE-4F72-B3BF-C9615AFD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9DAB-9AE2-4A3D-AC7F-CCA77D4C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CC6E-8B84-4120-A7EE-3D23B4F8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FBC2-CD64-484C-BE4A-57BD2BDF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5E7-775D-4B1B-8D97-E8B8478C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904-03EE-4D17-9E03-B188FC37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322-7FCF-4AE0-95E8-A9F033C0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FDB-FE34-44B4-998A-8A32DFC1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E4C-BECA-40CF-AD0A-66A613C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9BF-20AE-4A25-B318-D1FE99DC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DD2-5868-4ECE-B0C8-67B56C91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601A-3C84-42EA-A3FE-569230DE7E4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83908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28A3-FF1D-4000-A12A-1C204AD0AE1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39080" y="266688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ive Us A King -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United Kingdom, Part 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amuel 24:1-25, 22:1-51, 23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7-1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vid Numbers Israel and Judah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-9; 1 Chron. 21:1-22: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61976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tempted by Satan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Chron. 21: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ordered to number the fighting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from other “number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reason - “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y kno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protested - but followed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,000 in Israel; 500,000 in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0-1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conscience bother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sked for forg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het Gad to David - choose one of three punish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years of fa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months fleeing from hi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days of pesti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4-1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2044800"/>
            <a:ext cx="80010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humbled himself befor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ent pestilence upon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,000 men 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topped the angel before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interc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it upon me and my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8-2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required to build an altar at Araunah’s (or Ornan) threshing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unah’s genero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David bought the threshing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the altar (future location of the temp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ed sacrif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ed to G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gue sto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vid’s Song of Prai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2:1-51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5438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after God deliver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hands of his enemies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hand of S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xpres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God has been with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need to call upon the Lord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rewarded according to righte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lete destruction of hi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od be the glory and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Last Psalm of David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3:1-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- the son of Jesse, raised up on high, anointed of God, a sweet psalm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ed of the Holy Spir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escription of the ruler no doubt refers to the ruler with an everlasting covenant (Chr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the fate of the ungodl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6T01:04:10Z</dcterms:created>
  <dc:creator>Don Vines</dc:creator>
  <dc:description/>
  <dc:language>en-US</dc:language>
  <cp:lastModifiedBy>Frank D Vines</cp:lastModifiedBy>
  <dcterms:modified xsi:type="dcterms:W3CDTF">2005-07-19T14:59:14Z</dcterms:modified>
  <cp:revision>11</cp:revision>
  <dc:subject/>
  <dc:title>Give Us A King -  The United Kingdom</dc:title>
</cp:coreProperties>
</file>